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hamm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31F-D86C-4249-8A04-AA322015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231-0306-4508-BEAF-0F70F42D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79F-00EA-4934-994C-B49CF25A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632-F918-4E12-9477-53AEA27D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A80-69D0-47F9-B080-B9CB6881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46F-B6D1-4519-9B51-4D1EB3E0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935-F422-4B86-9D41-21CCC123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181-563B-49B7-A040-820F6A2B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1ED-FB44-41AB-9C88-15B651C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8A3-AA1B-4622-B7B7-6DB25BCD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389-638A-442B-A1A6-1704522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76F-EA90-443F-939E-BE9A88BB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4E9-6B0A-44C5-96A5-2DA405A785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952560"/>
            <a:ext cx="896472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感受李大钊大无畏的革命精神与坚贞不屈的崇高品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线连接符 21"/>
          <p:cNvSpPr/>
          <p:nvPr/>
        </p:nvSpPr>
        <p:spPr>
          <a:xfrm>
            <a:off x="2987640" y="1484280"/>
            <a:ext cx="3141720" cy="2556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00040" y="3086280"/>
            <a:ext cx="4118040" cy="336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  <p:sp>
        <p:nvSpPr>
          <p:cNvPr id="46" name="矩形 3"/>
          <p:cNvSpPr/>
          <p:nvPr/>
        </p:nvSpPr>
        <p:spPr>
          <a:xfrm>
            <a:off x="0" y="404640"/>
            <a:ext cx="89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十六年前的回忆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7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534320"/>
            <a:ext cx="741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华文新魏"/>
              </a:rPr>
              <a:t>被捕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华文新魏"/>
              </a:rPr>
              <a:t>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父亲坚决地对母亲说：“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不是常对你说吗？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是不能轻易离开北京的。你要知道现在是什么时候，这里的工作多么重要。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我哪能离开呢？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481248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李大钊明白处境危险，不离开工作岗位，表现他对革命事业高度负责的精神。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7961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没有什么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不要怕。星儿跟我到外面看看去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42811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慌不忙”表现出李大钊处变不惊、镇定勇敢。“没有什么”是指父亲提前整理并烧书籍文件，已经不可能有什么秘密会落入敌人手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6028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捕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父亲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慌不忙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地从抽屉里取出一把闪亮的小手枪，就向外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H43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2985120"/>
            <a:ext cx="756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到了他那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乱蓬蓬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长头发下面的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静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慈祥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脸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脸上的表情非常安定，非常沉着。他的心被一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种伟大的力量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占据着。这个力量就是他平日对我们讲的—他对于革命事业的信心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5493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华文新魏"/>
              </a:rPr>
              <a:t>被捕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华文新魏"/>
              </a:rPr>
              <a:t>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MH43"/>
          <p:cNvPicPr/>
          <p:nvPr/>
        </p:nvPicPr>
        <p:blipFill>
          <a:blip r:embed="rId1"/>
          <a:stretch/>
        </p:blipFill>
        <p:spPr>
          <a:xfrm>
            <a:off x="0" y="260280"/>
            <a:ext cx="9174240" cy="659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2359800"/>
            <a:ext cx="7920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没戴眼镜、乱蓬蓬的长头发”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明敌人对李大钊用过重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“</a:t>
            </a: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静”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明李大钊仍保持着对革命事业坚定的信念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“</a:t>
            </a: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慈祥”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明李大钊对亲人的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“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种伟大力量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指的是他对于革命事业的信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H43"/>
          <p:cNvPicPr/>
          <p:nvPr/>
        </p:nvPicPr>
        <p:blipFill>
          <a:blip r:embed="rId1"/>
          <a:stretch/>
        </p:blipFill>
        <p:spPr>
          <a:xfrm>
            <a:off x="0" y="260280"/>
            <a:ext cx="9174240" cy="6597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2664360"/>
            <a:ext cx="10792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大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6508800"/>
            <a:ext cx="9144000" cy="34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50920" y="2276640"/>
            <a:ext cx="297000" cy="2736720"/>
          </a:xfrm>
          <a:custGeom>
            <a:avLst/>
            <a:gdLst>
              <a:gd name="textAreaLeft" fmla="*/ 189720 w 297000"/>
              <a:gd name="textAreaRight" fmla="*/ 297360 w 297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05560" y="47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5940000" y="2133720"/>
            <a:ext cx="297000" cy="2808000"/>
          </a:xfrm>
          <a:custGeom>
            <a:avLst/>
            <a:gdLst>
              <a:gd name="textAreaLeft" fmla="*/ 189720 w 297000"/>
              <a:gd name="textAreaRight" fmla="*/ 297360 w 29700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27200" y="2205000"/>
            <a:ext cx="20088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坚贞不屈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崇高品质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1989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3284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autoRev="1" nodeType="afterEffect" fill="remove" presetClass="emph" presetID="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12:38:38Z</dcterms:created>
  <dc:creator>Yang</dc:creator>
  <dc:description/>
  <dc:language>en-US</dc:language>
  <cp:lastModifiedBy>Sky123.Org</cp:lastModifiedBy>
  <dcterms:modified xsi:type="dcterms:W3CDTF">2015-08-31T11:29:49Z</dcterms:modified>
  <cp:revision>24</cp:revision>
  <dc:subject/>
  <dc:title>幻灯片 1</dc:title>
</cp:coreProperties>
</file>